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FB24-BD34-49FC-B549-447531A91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046A-EC25-43AF-BAE8-460E33847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F0F0-CF6A-403D-85CB-5C953C486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AF8C-7CFD-433D-BFE4-7F3686D60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CABD5-9DD5-49D9-8F7F-D1007D40E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35D7D-809F-43E3-B943-849F02BD4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E6328-857A-4EC6-A671-B8B5E6BA0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DC108-7C84-4A99-97C8-C92028AFE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457F2-8669-41AF-A1CB-AB8092481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CF62C-81CF-4C93-A479-5F8AFD24B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C3CB4-AC2D-4D01-9853-3DC255B0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70B4-4D8A-4D05-BEB6-584D269F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A9351-E944-4BB8-960B-103B331B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A411A-855C-4734-9531-441D971D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DAC77-6B2C-4E9F-B7B1-BCAC5E0C6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96E29-1450-4887-A69E-8A96B9868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1DBB4-5221-47BC-A207-6955427C8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EA3A2-F0DD-4DC1-AAE6-2B12D74DA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412E2-95F1-418F-9775-26286AB57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4DBEF-553F-4109-9EB0-0E08647EF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F6051-EEB3-4B30-85CB-B829923C8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80C9C-C772-4612-A078-8F88C276F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41D2-CC25-4DCF-8A57-674A789E5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DDC63-8B6E-4C62-B377-7CC15A603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C5EB1-8D1D-4368-B068-08C11C59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E35FB-9CCF-4F1A-8594-CD072873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3F2D2-9404-4F09-841D-FB0E6FF3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2AA40-4D65-42D3-BA32-9ABCA15D6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8DF6E-0C9F-478B-B03B-068395BAA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EB9AE-D989-4A5C-87B1-A1DF622F0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464B2-7001-4EBC-B7DD-3D426850D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4F469-B5FA-4208-AEAD-6B086A1BC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D409F-A955-4562-ACBD-2EF3BD98C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ACFD-7564-4899-8ADD-E143F1C00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C24B6-DAFF-475E-B845-78712DB54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1CA2A-8010-4FF9-B8A2-6FD91DD39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EE5B7-3F02-4079-8671-9000FDA1E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B16CA-DCC1-41FD-9719-E3D05F02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B8F54-5A65-48F6-8905-90AAE598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F8A3F-B2FF-4F8E-A8F1-E242FB74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98CD6-D0A0-4A09-972C-82B7AB110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F0E35-FC98-434F-AE1B-80D373945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5A165-A1C7-4F02-B4F1-89DA0BCCA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311D9-6937-49AF-A31C-86B10813E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9296-A5DD-4D2B-B02A-7C992141D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8FBF0-7192-4431-9742-41E8BFE51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B7E04-D04B-423B-A4BE-E3E7B9C6E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EB3F3-0530-4B3B-A856-973E80A07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BCB6E-8C56-4925-AAE5-50C4713E1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BC759-257F-42C1-BC4E-46EA7F1B1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1F28E-8AE3-42C5-9250-96D2B71C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7E1BD-3F04-49EA-BF6C-2019AFE4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4D438-4D27-46B4-95EA-F9AB96E2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B858C-711F-4A0B-8C49-DD4754D27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C9B08-17E1-4C2E-BE0B-BA7040C9F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E113-EEC6-4EE5-B4EE-10CFAE961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38BFF-22CC-4CDF-A0DA-31C8E0466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C2BE0B-7537-4B69-939A-F100E224A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E6077-0248-4159-AF00-B466E1AD9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C1D0A-DF0B-4215-BA92-70B0CFE0B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2151E-665B-407D-AF16-5659C65CC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27C64-58D3-4F93-B4A7-514301342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CF7334-E294-4F56-A26A-D8637C73F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03FD3-3B38-4259-BC43-50760C5D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4386C-A78E-475E-BFAB-11330514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DEE2E-DF1F-4196-8E8C-4F1F01E9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D912-87AE-41FF-B1B0-8ECB786D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6AFDA-B96E-482F-A3B6-9FD4D6948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325B3-3DDB-42C1-961A-3A439B27B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DB49A-033D-497C-9286-D3D0A7D90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11D8-46E4-4F2A-A26B-C9174365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D301-B6BA-43D2-9BA7-FC458500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ED7B9-A91E-42AE-BE9F-5C78B724A9C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8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7FBDA-36D6-4614-AA80-439306E4001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BD72-9A1B-490B-A96E-52C6A315840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35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37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41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B386A-11AE-429B-8995-809D12AFA5E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9FC9E-DA45-47EC-A3A0-22711D40A25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DF978-9E92-427D-A8E8-946C28B1C48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ndex Car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295280" y="1523880"/>
          <a:ext cx="6934320" cy="5029200"/>
        </p:xfrm>
        <a:graphic>
          <a:graphicData uri="http://schemas.openxmlformats.org/drawingml/2006/table">
            <a:tbl>
              <a:tblPr/>
              <a:tblGrid>
                <a:gridCol w="6934320"/>
              </a:tblGrid>
              <a:tr h="213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DE ONE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one with no line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w a symbol that symbolizes y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DE TW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r 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r birth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guage your parents speak (if English and another language put both languag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e phone number or parents’ cell ph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r email address: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I (check marks for computer, printer, interne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70" name="Picture 19" descr="j0217698"/>
          <p:cNvPicPr/>
          <p:nvPr/>
        </p:nvPicPr>
        <p:blipFill>
          <a:blip r:embed="rId1"/>
          <a:stretch/>
        </p:blipFill>
        <p:spPr>
          <a:xfrm>
            <a:off x="3733920" y="2286000"/>
            <a:ext cx="1484280" cy="130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438280" y="1522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Introduction Letter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361960" y="838080"/>
            <a:ext cx="66294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rite a letter introducing yourself to me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egin with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Dear Mr. Engstrand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rite neatly and legibly (clearly)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alf a page minimum, one page maximu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Topics to guide your writ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ties/hobbies you enjo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academic history (how you perform in scho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behavioral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teachers do that you enjo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teachers do that you do not enjo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you’re feeling right n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your friends would describe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your family would describe you</a:t>
            </a:r>
            <a:r>
              <a:rPr b="0" lang="en-US" sz="19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thing else you think I should know about you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001000" cy="106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What I like to read” paragraph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rite a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opic sentence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Ex:  I really enjoy reading my 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email.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rite three to five sentences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explaining why you like to read thi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.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rite a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oncluding sentence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Ex:  Email is definitely my favorit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reading material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8T01:03:47Z</dcterms:created>
  <dc:creator>teacher</dc:creator>
  <dc:description/>
  <dc:language>en-US</dc:language>
  <cp:lastModifiedBy>Tengstrand</cp:lastModifiedBy>
  <dcterms:modified xsi:type="dcterms:W3CDTF">2010-09-08T17:52:27Z</dcterms:modified>
  <cp:revision>112</cp:revision>
  <dc:subject/>
  <dc:title>August 18    Respect</dc:title>
</cp:coreProperties>
</file>